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students strugg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upports / strategies do you currently use for struggling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hallenges / concerns/ frustrations do you have in supporting struggling learn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from related Plenary ses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ing Atten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S directs students’ attention to aspects we believe are important (eg. Value of the constant with the number of tiles in the pattern that “stay the same” with the y-intercep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on  directs students’ attention to particular aspects of each tas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Representation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rk with dynamic learning objects (constructable, manipulable, &amp; interactiv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n opportunity for students to construct an understanding rather than memorize rote fac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bertool “Exploring Different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activities (5 – 10 minutes eac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activities is thoughtfully planned to build in small step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activities, can be replayed as often as desi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es ~ opportunities to practi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with Representative Examp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s introduced through Minds On activiti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s between representations are explicitly explore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ce to practice new skill, action activ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assessment of learning using “Check you understanding” Activ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ed based on values entered and number of attemp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rnin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ory sticks were copied from a Mac machine.  If you have a PC, you will see two copies of all the files, one looks paler than the other.  This pale version does not function and can be deleted from your memory stic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CLIPS from the memory stick did not work well for me… took forever to load, never actually di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would suggest you copy the CLIPS folder to your deskto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nnoying “flashisms” that you may need to learn to deal wit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to allow ActivX controllers on your computer</a:t>
            </a:r>
            <a:endParaRPr b="0" lang="en-US" sz="1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needs to have  list of “safe” places to run files from….if you get a warning about a dangerous operation.. You must click on settings… and allow flash to run swf files from a location on your compu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Player settings manag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vanced”  tab-&gt;  Trusted location settings -&gt; Ad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older CLIPs from wherever you have copied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minimize the ppt and open the “Exploring Different Reps” tool yourself.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 with the demonstration as outlined in the MATCH templ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some reason, the internet is not cooperating, it is possible to run this activity by opening the file directly from your memory stic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it, follow the indicated series of folders… then double click on the indicated swf fi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S /lib /CL004_LinearGrowingPatterns/CL004_Resources/CL004_DiffReps.sw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cess the Integer tools that are in development:</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th Camppp memory stick, go to the Tools folder inside the CLIPS folde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the file called “ CLIPS_ToolsDevPod.swf”</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contains some of the Integer tools which are still in early development stages.  For some reason, it does not contain some of the fraction tools that are available on line.</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participants to model the same question using different too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you are not able to use the actual CLIPS activities, how might you incorporate some of the features that research has found makes them effe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4C10F-2BCC-4E5F-AAB7-5600D91B60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DA8E31-56B6-49A7-B671-2D8F8CA8C9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F3558-B682-484F-A806-A12D04F7A5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3DCB34-9371-425B-A45E-7963D59B40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880A4-A0D6-4582-B0FB-F4123FC0C5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900E8-2294-4769-83EC-DBE5C1D661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16ACA-0D73-4FFD-BE4B-A05FCA918F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73AEF32D-4832-4FEF-A7DE-2460C5CE74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D79F1F0-75B1-4DAE-934A-B17174CC5B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70882-7B19-43B6-83B5-F62F03F919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1AB5A-1D35-409E-99D2-16ABCFCA17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12117-0EC7-4FAE-AA70-63AED284CA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B8D6-28B3-44D3-B7E5-40648EBA06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mathclips.ca/"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5E99-C25D-465F-93D3-177C83256C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Nottawasaga Session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CLIPS</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lgebraic Thinking ~Session #4</a:t>
            </a:r>
            <a:endParaRPr b="0" lang="en-US" sz="4400" spc="-1" strike="noStrike">
              <a:solidFill>
                <a:srgbClr val="2b5ca9"/>
              </a:solidFill>
              <a:latin typeface="Arial"/>
            </a:endParaRPr>
          </a:p>
        </p:txBody>
      </p:sp>
      <p:sp>
        <p:nvSpPr>
          <p:cNvPr id="51" name=""/>
          <p:cNvSpPr txBox="1"/>
          <p:nvPr/>
        </p:nvSpPr>
        <p:spPr>
          <a:xfrm>
            <a:off x="457200" y="159984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Learning Goal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ose traditional and personal practices for working with struggling students</a:t>
            </a:r>
            <a:endParaRPr b="0" lang="en-US" sz="3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uss different ways that students struggle</a:t>
            </a:r>
            <a:endParaRPr b="0" lang="en-US" sz="3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ore CLIPS tools/activities as a possible tool for working with struggling studen</a:t>
            </a:r>
            <a:r>
              <a:rPr b="0" lang="en-US" sz="3200" spc="-1" strike="noStrike">
                <a:solidFill>
                  <a:srgbClr val="000000"/>
                </a:solidFill>
                <a:latin typeface="Arial"/>
              </a:rPr>
              <a:t>ts</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EB27-EC58-4C32-A7A9-A06B9ECDA5A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5608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C0B7-A8E0-4AB4-BE59-6651F1CA947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6" descr=""/>
          <p:cNvPicPr/>
          <p:nvPr/>
        </p:nvPicPr>
        <p:blipFill>
          <a:blip r:embed="rId2"/>
          <a:stretch/>
        </p:blipFill>
        <p:spPr>
          <a:xfrm>
            <a:off x="5562720" y="4998960"/>
            <a:ext cx="2514600" cy="124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Graffiti</a:t>
            </a:r>
            <a:endParaRPr b="0" lang="en-US" sz="4400" spc="-1" strike="noStrike">
              <a:solidFill>
                <a:srgbClr val="2b5ca9"/>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FB18-BAAF-4383-A03D-A780BAA4BF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8" name="Picture 6" descr="Z:\Clip Art\Business &amp; Office (Part 2)\Cartoons (Wa - Z)\Writing 13.wmf"/>
          <p:cNvPicPr/>
          <p:nvPr/>
        </p:nvPicPr>
        <p:blipFill>
          <a:blip r:embed="rId1"/>
          <a:stretch/>
        </p:blipFill>
        <p:spPr>
          <a:xfrm>
            <a:off x="2819520" y="1600200"/>
            <a:ext cx="3789360" cy="3927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Arial"/>
              </a:rPr>
              <a:t>Minds On:  Features of CLIPS</a:t>
            </a:r>
            <a:endParaRPr b="0" lang="en-US" sz="4400" spc="-1" strike="noStrike">
              <a:solidFill>
                <a:srgbClr val="2b5ca9"/>
              </a:solidFill>
              <a:latin typeface="Arial"/>
            </a:endParaRPr>
          </a:p>
        </p:txBody>
      </p:sp>
      <p:sp>
        <p:nvSpPr>
          <p:cNvPr id="6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Atten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 with Dynamic Representations to Construct Understand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opportunities for practic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ling with Representative exampl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diate levelled corrective feedbac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1160-C76C-4713-99A4-396527CFE6A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a:t>
            </a:r>
            <a:br>
              <a:rPr sz="4400"/>
            </a:br>
            <a:r>
              <a:rPr b="0" lang="en-US" sz="3200" spc="-1" strike="noStrike">
                <a:solidFill>
                  <a:srgbClr val="ff0000"/>
                </a:solidFill>
                <a:latin typeface="Arial"/>
              </a:rPr>
              <a:t>Exploring Different Representations Tool</a:t>
            </a:r>
            <a:endParaRPr b="0" lang="en-US" sz="3200" spc="-1" strike="noStrike">
              <a:solidFill>
                <a:srgbClr val="2b5ca9"/>
              </a:solidFill>
              <a:latin typeface="Arial"/>
            </a:endParaRPr>
          </a:p>
        </p:txBody>
      </p:sp>
      <p:sp>
        <p:nvSpPr>
          <p:cNvPr id="63" name=""/>
          <p:cNvSpPr txBox="1"/>
          <p:nvPr/>
        </p:nvSpPr>
        <p:spPr>
          <a:xfrm>
            <a:off x="457200" y="1599840"/>
            <a:ext cx="8229600" cy="52578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cess CLIP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mathclips.ca</a:t>
            </a:r>
            <a:r>
              <a:rPr b="0" lang="en-US" sz="3200" spc="-1" strike="noStrike">
                <a:solidFill>
                  <a:srgbClr val="000000"/>
                </a:solidFill>
                <a:latin typeface="Arial"/>
              </a:rPr>
              <a:t>  or</a:t>
            </a:r>
            <a:endParaRPr b="0" lang="en-US" sz="3200" spc="-1" strike="noStrike">
              <a:solidFill>
                <a:srgbClr val="000000"/>
              </a:solidFill>
              <a:latin typeface="Arial"/>
            </a:endParaRPr>
          </a:p>
          <a:p>
            <a:pPr marL="3960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th Camppp memory stick</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py the CLIPS folder to your desktop.</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ICK on </a:t>
            </a:r>
            <a:r>
              <a:rPr b="1" i="1" lang="en-US" sz="2000" spc="-1" strike="noStrike">
                <a:solidFill>
                  <a:srgbClr val="000000"/>
                </a:solidFill>
                <a:latin typeface="Arial"/>
              </a:rPr>
              <a:t>index.html </a:t>
            </a:r>
            <a:r>
              <a:rPr b="0" lang="en-US" sz="2000" spc="-1" strike="noStrike">
                <a:solidFill>
                  <a:srgbClr val="000000"/>
                </a:solidFill>
                <a:latin typeface="Arial"/>
              </a:rPr>
              <a:t>to start up CLIP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 ActiveX controls if warning message appear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DD34-ADCC-4E26-8A52-92B249F625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a:t>
            </a:r>
            <a:br>
              <a:rPr sz="4400"/>
            </a:br>
            <a:r>
              <a:rPr b="0" lang="en-US" sz="3200" spc="-1" strike="noStrike">
                <a:solidFill>
                  <a:srgbClr val="ff0000"/>
                </a:solidFill>
                <a:latin typeface="Arial"/>
              </a:rPr>
              <a:t>Exploring Different Representations Tool</a:t>
            </a:r>
            <a:endParaRPr b="0" lang="en-US" sz="3200" spc="-1" strike="noStrike">
              <a:solidFill>
                <a:srgbClr val="2b5ca9"/>
              </a:solidFill>
              <a:latin typeface="Arial"/>
            </a:endParaRPr>
          </a:p>
        </p:txBody>
      </p:sp>
      <p:sp>
        <p:nvSpPr>
          <p:cNvPr id="6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icon on the right hand side to access the CLIPS tools. </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flash warning comes up, click on Settings and add the </a:t>
            </a:r>
            <a:r>
              <a:rPr b="0" lang="en-US" sz="2000" spc="-1" strike="noStrike">
                <a:solidFill>
                  <a:srgbClr val="000000"/>
                </a:solidFill>
                <a:latin typeface="Arial"/>
              </a:rPr>
              <a:t>	</a:t>
            </a:r>
            <a:r>
              <a:rPr b="0" lang="en-US" sz="2000" spc="-1" strike="noStrike">
                <a:solidFill>
                  <a:srgbClr val="000000"/>
                </a:solidFill>
                <a:latin typeface="Arial"/>
              </a:rPr>
              <a:t>location of the CLIPS folder to your trusted location settings.</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F409-0638-4D2E-9FD7-E8197835BFE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8" name="Picture 2" descr=""/>
          <p:cNvPicPr/>
          <p:nvPr/>
        </p:nvPicPr>
        <p:blipFill>
          <a:blip r:embed="rId1"/>
          <a:stretch/>
        </p:blipFill>
        <p:spPr>
          <a:xfrm>
            <a:off x="2209680" y="3505320"/>
            <a:ext cx="6391440" cy="2390760"/>
          </a:xfrm>
          <a:prstGeom prst="rect">
            <a:avLst/>
          </a:prstGeom>
          <a:ln w="0">
            <a:noFill/>
          </a:ln>
        </p:spPr>
      </p:pic>
      <p:pic>
        <p:nvPicPr>
          <p:cNvPr id="69" name="Picture 4" descr=""/>
          <p:cNvPicPr/>
          <p:nvPr/>
        </p:nvPicPr>
        <p:blipFill>
          <a:blip r:embed="rId2"/>
          <a:stretch/>
        </p:blipFill>
        <p:spPr>
          <a:xfrm>
            <a:off x="3200400" y="1676520"/>
            <a:ext cx="504720" cy="419040"/>
          </a:xfrm>
          <a:prstGeom prst="rect">
            <a:avLst/>
          </a:prstGeom>
          <a:ln w="0">
            <a:noFill/>
          </a:ln>
        </p:spPr>
      </p:pic>
      <p:cxnSp>
        <p:nvCxnSpPr>
          <p:cNvPr id="70" name="Straight Arrow Connector 5"/>
          <p:cNvCxnSpPr/>
          <p:nvPr/>
        </p:nvCxnSpPr>
        <p:spPr>
          <a:xfrm flipH="1">
            <a:off x="7391160" y="2895120"/>
            <a:ext cx="1372320" cy="1296360"/>
          </a:xfrm>
          <a:prstGeom prst="straightConnector1">
            <a:avLst/>
          </a:prstGeom>
          <a:ln w="28440">
            <a:solidFill>
              <a:srgbClr val="ff0000"/>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ction: Parallel Task</a:t>
            </a:r>
            <a:endParaRPr b="0" lang="en-US" sz="4400" spc="-1" strike="noStrike">
              <a:solidFill>
                <a:srgbClr val="2b5ca9"/>
              </a:solidFill>
              <a:latin typeface="Arial"/>
            </a:endParaRPr>
          </a:p>
        </p:txBody>
      </p:sp>
      <p:pic>
        <p:nvPicPr>
          <p:cNvPr id="72" name="Content Placeholder 4" descr=""/>
          <p:cNvPicPr/>
          <p:nvPr/>
        </p:nvPicPr>
        <p:blipFill>
          <a:blip r:embed="rId1"/>
          <a:stretch/>
        </p:blipFill>
        <p:spPr>
          <a:xfrm>
            <a:off x="341280" y="1494000"/>
            <a:ext cx="8540640" cy="2620800"/>
          </a:xfrm>
          <a:prstGeom prst="rect">
            <a:avLst/>
          </a:prstGeom>
          <a:ln w="0">
            <a:noFill/>
          </a:ln>
        </p:spPr>
      </p:pic>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24A0-F4E0-4A1A-BBAA-F1ABE7084E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4" name="TextBox 5"/>
          <p:cNvSpPr/>
          <p:nvPr/>
        </p:nvSpPr>
        <p:spPr>
          <a:xfrm>
            <a:off x="349200" y="4572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se tools, which are still in development mode, you will need to open the file “</a:t>
            </a:r>
            <a:r>
              <a:rPr b="0" lang="en-US" sz="1800" spc="-1" strike="noStrike">
                <a:solidFill>
                  <a:srgbClr val="000000"/>
                </a:solidFill>
                <a:latin typeface="Arial"/>
                <a:ea typeface="ＭＳ Ｐゴシック"/>
              </a:rPr>
              <a:t>CLIPS_ToolsDevPod.swf” found in the Tools folder, inside the CLIPS folder </a:t>
            </a:r>
            <a:r>
              <a:rPr b="0" lang="en-US" sz="1800" spc="-1" strike="noStrike">
                <a:solidFill>
                  <a:srgbClr val="000000"/>
                </a:solidFill>
                <a:latin typeface="Arial"/>
              </a:rPr>
              <a:t> from your memory sti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5" name="TextBox 1"/>
          <p:cNvSpPr/>
          <p:nvPr/>
        </p:nvSpPr>
        <p:spPr>
          <a:xfrm>
            <a:off x="374760" y="4113360"/>
            <a:ext cx="8464320" cy="398880"/>
          </a:xfrm>
          <a:prstGeom prst="rect">
            <a:avLst/>
          </a:prstGeom>
          <a:solidFill>
            <a:srgbClr val="bbe0e3"/>
          </a:solidFill>
          <a:ln w="255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modelling the same question using a different tool.</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nsolidate: Sharing</a:t>
            </a:r>
            <a:endParaRPr b="0" lang="en-US" sz="4400" spc="-1" strike="noStrike">
              <a:solidFill>
                <a:srgbClr val="2b5ca9"/>
              </a:solidFill>
              <a:latin typeface="Arial"/>
            </a:endParaRPr>
          </a:p>
        </p:txBody>
      </p:sp>
      <p:sp>
        <p:nvSpPr>
          <p:cNvPr id="77" name=""/>
          <p:cNvSpPr txBox="1"/>
          <p:nvPr/>
        </p:nvSpPr>
        <p:spPr>
          <a:xfrm>
            <a:off x="380880" y="1980720"/>
            <a:ext cx="8229600" cy="388620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ing Activities/Games/Tools etc. that you found?</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E3D5-1731-4237-9F9E-7229144E84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ff"/>
                </a:solidFill>
                <a:latin typeface="Arial"/>
              </a:rPr>
              <a:t>Consolidate: Reflection</a:t>
            </a:r>
            <a:endParaRPr b="0" lang="en-US" sz="4400" spc="-1" strike="noStrike">
              <a:solidFill>
                <a:srgbClr val="2b5ca9"/>
              </a:solidFill>
              <a:latin typeface="Arial"/>
            </a:endParaRPr>
          </a:p>
        </p:txBody>
      </p:sp>
      <p:sp>
        <p:nvSpPr>
          <p:cNvPr id="80" name=""/>
          <p:cNvSpPr txBox="1"/>
          <p:nvPr/>
        </p:nvSpPr>
        <p:spPr>
          <a:xfrm>
            <a:off x="457200" y="162360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use the dynamic CLIPS tools and/or activities with your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ight you incorporate some of the “features” of CLIPS into your instructional practic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focussing attention, dynamic representations, multiple opportunities for practice, modelling with representative examples, immediate levelled corrective feedback</a:t>
            </a:r>
            <a:endParaRPr b="0" lang="en-US" sz="18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0566-BAD5-435D-B4E9-786B7E61130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3" descr="Z:\Clip Art\Travel &amp; Leisure\Vacations (F - Q)\Map.wmf"/>
          <p:cNvPicPr/>
          <p:nvPr/>
        </p:nvPicPr>
        <p:blipFill>
          <a:blip r:embed="rId1"/>
          <a:stretch/>
        </p:blipFill>
        <p:spPr>
          <a:xfrm>
            <a:off x="6553080" y="195120"/>
            <a:ext cx="1227240" cy="1141560"/>
          </a:xfrm>
          <a:prstGeom prst="rect">
            <a:avLst/>
          </a:prstGeom>
          <a:ln w="0">
            <a:noFill/>
          </a:ln>
        </p:spPr>
      </p:pic>
      <p:pic>
        <p:nvPicPr>
          <p:cNvPr id="83" name="Picture 4" descr="Z:\Clip Art\Travel &amp; Leisure\Vacations (F - Q)\Passport 1.wmf"/>
          <p:cNvPicPr/>
          <p:nvPr/>
        </p:nvPicPr>
        <p:blipFill>
          <a:blip r:embed="rId2"/>
          <a:stretch/>
        </p:blipFill>
        <p:spPr>
          <a:xfrm rot="21444000">
            <a:off x="7997400" y="510840"/>
            <a:ext cx="838440" cy="109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agrafton</cp:lastModifiedBy>
  <dcterms:modified xsi:type="dcterms:W3CDTF">2011-08-06T21:29:24Z</dcterms:modified>
  <cp:revision>24</cp:revision>
  <dc:subject/>
  <dc:title>&lt;Title&gt;</dc:title>
</cp:coreProperties>
</file>